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B759-0EAE-4A02-A114-75625ED98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C2FB-165D-4D4F-8A81-758CA0E7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0B7F-96D8-4604-A296-BCDC41FFD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BF26-904D-491A-8BE3-6B78C6305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820E-5BB1-45B7-BA00-B8400F6D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E43A-9EE2-4B80-9DEB-E802B759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E109-9DA2-4906-88F6-B3333A59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65D1-1D8B-4003-99D4-36A73192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DBB3-3650-421A-8746-B65F96B1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CCFD-0759-4E92-BFCE-2F2BF46C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8814-5B79-491F-95A2-1600F413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2F95-D6A6-428E-BE59-38DA65A0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4E6E-C653-4DCC-BB6F-B55FF51F1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ebopedia.com/TERM/V/VoIP.html##" TargetMode="External"/><Relationship Id="rId2" Type="http://schemas.openxmlformats.org/officeDocument/2006/relationships/hyperlink" Target="http://www.webopedia.com/TERM/V/VoIP.html##" TargetMode="External"/><Relationship Id="rId3" Type="http://schemas.openxmlformats.org/officeDocument/2006/relationships/hyperlink" Target="http://www.webopedia.com/TERM/V/Internet.html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ed Information System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Advantages of and classified by their size &amp; architecture or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IP Protocol, N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ic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er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ternet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otoc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 category of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ardwar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oftwar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that enables people to use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nterne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as the transmission medium for telephone calls by sending voice data in packets using 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doesn’t pay anymore than what they are paying for their inter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PN N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telephony is a combination of hardware and software that enables people to use the Internet as the transmission medium for telephone calls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can be with the quality of the 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need a microphone &amp; sound 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person needs to be on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net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292720" y="1341000"/>
            <a:ext cx="33940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twork consists of two or more computers that are linked in order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resources (such as printers and CD-ROMs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hange files,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electronic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1233720" cy="1505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124080" y="2971800"/>
            <a:ext cx="1233720" cy="1504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116000" y="4292640"/>
            <a:ext cx="1233360" cy="1504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2843280" y="5084640"/>
            <a:ext cx="1447560" cy="776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76520" y="2743200"/>
            <a:ext cx="1600200" cy="99072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71640" y="3573360"/>
            <a:ext cx="431640" cy="79236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4292640"/>
            <a:ext cx="431640" cy="79200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5445000"/>
            <a:ext cx="863640" cy="7164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Network? 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sharing - internet, printers, software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te services, ordering, B2B, ATM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 commun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collaborative documents, intranet, group calendaring, email, videoconferencing, chat, virtual private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and information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ing money on expensive equip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printers, internet connections, internet cache, CD d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i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access home directory from any PC, remote control of equipment, networked help de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password protection, back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hieve organisation goals, efficiency, effectiveness, customer service, company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s can be classifi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size and architec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logical shape, “topology” (bus, star, r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hey are linked or connected together, (cable, wireless, satellite, radio &amp; infrared syste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hardware and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S, local area ne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an be cabled (UTP, coaxial*) or wirel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Geographically limited, usually to one s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onger distances between buildings may need fibre optic c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s usually have one computer designated as the file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computers are connected to the network by cables connecting network interface cards in each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reless LAN means computers not confined to one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de Area Network, (W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AN) – broad geographic coverage (e.g. state-wide, country-w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, where communications carried by a medium owned by someone else who is not part of organ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s use landline data cables (e.g. ISDN, ADSL), satell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S, MAN, state wide network, National Area Network, world wide, eg.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Private Networks (VPN) can form a private network using the internet as a communication channel – much cheaper than leased ISDN l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ent/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computer program (the ‘client’) asks another computer program (the ‘server’) to provide a service, such as looking up and providing data, delivering email, sending web pages, bank balances etc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ient/server model can interconnect programs distributed across different lo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multi-tas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servers, print servers, database servers, DNS’s, Proxy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er-to-Peer (P2P) network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o server, so costs are lower and installation i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ll computers and users, “peers”, have equal authority and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ittle protection of one workstation against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-Used at home or in small organisations with truste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-Allows sharing of files, internet connection, pr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ssues of speed, security,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-Internet music sharing networks such as Kazaa are peer-to-peer because there is no central coordinating computer, data and operating software are stored on on each client’s compu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net peer-to-peer n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nnect to another’s computer over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Kazaa software application that supports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xposes computer to security vio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6T21:49:56Z</dcterms:created>
  <dc:creator>T01421606</dc:creator>
  <dc:description/>
  <dc:language>en-US</dc:language>
  <cp:lastModifiedBy>Kelvin Baird</cp:lastModifiedBy>
  <dcterms:modified xsi:type="dcterms:W3CDTF">2007-01-05T03:13:03Z</dcterms:modified>
  <cp:revision>10</cp:revision>
  <dc:subject/>
  <dc:title>Slide 1</dc:title>
</cp:coreProperties>
</file>